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949-BDF4-4D16-A578-D93805CF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C91-4E8B-4E2B-BF30-34252D0F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76D-E716-4E3E-A1BD-C90A9FC3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5E8-F5CC-44FF-8AA8-8CB7BA50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FF0-43EA-44D5-BC1A-6474232B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9AA-E86C-471B-9EE5-22E097D0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4C7-D33F-4CDF-A461-FB8F047B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501-627E-401A-B52D-625BC513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306-7675-4AD3-BD33-908D75F5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257-39A5-413F-85F3-C8944D3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D5A-00EC-468B-959D-7D985BC2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0F8-BFDA-4E6B-8FAE-3F38CD7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8EEC-2F3B-4456-BE1B-027F81267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for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648320"/>
            <a:ext cx="3810240" cy="1252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alysis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atifi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705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924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9246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43000" y="1371600"/>
            <a:ext cx="7162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nother Analysis 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7162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724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40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16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14400" y="276876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467480" cy="11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117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3124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924680" cy="281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19920" y="5486400"/>
            <a:ext cx="2006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924680" cy="30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924680" cy="365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6T16:05:41Z</dcterms:modified>
  <cp:revision>109</cp:revision>
  <dc:subject/>
  <dc:title>The Art in the State of the Art</dc:title>
</cp:coreProperties>
</file>